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B2FF0-77DB-410F-A957-19C31F66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F4BA5-78E3-4EDD-BC96-88E172AB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B7252-3C92-47F3-B628-BE62D20B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B0D38-F356-4348-BDEB-2AABC86C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A5A1D-6C62-4706-9CCE-37EF58C5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B7BA-CB3F-4F90-8BC7-1D84BA9D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942ED-E155-4349-80E0-83DA2E07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1892F-6B20-472E-B139-2E8CB360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28137-A3C9-4F1D-AA8A-B8B8BC9B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E7E20-85EC-4FA0-B6A2-347D9AA4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8813A-1F69-4C37-A7B9-6573A7C0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9591F-7F33-4500-9494-5161ABEC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EAE3F-DAD3-42FA-8573-1722A1B5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56645-7C36-4266-8F26-19693CED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D5467-D95D-4E45-B52F-84076EA8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D2212-6F16-4DD4-8ACC-E04CDD37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D3EF6-A2E0-4F03-B58A-7071E88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437B7-4792-41C1-B6E9-23816E85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1539B-BE20-4554-AA24-4CBFC65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CD060-E459-4489-A0D4-1B12A2FE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CE379-E6BC-45FC-A81B-52C3686A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F069C-B28B-499A-9B7E-6EF7F3A8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750A2-7E63-41AB-ADB3-5B54EE32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4A3CB-509D-4C40-835A-1BB0A185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200AD-37E5-4D69-ACDF-C55D9BC4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974A1-5135-4D90-BB04-41F10170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EC00C-1265-4683-A754-8835301F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404F8-44F9-411D-B567-DD96A6BC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C2BF9-FEAB-4952-9547-62B6724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A482D-5F90-4F07-85A5-3978F558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306-8787-4E2F-AC73-F3E1A67A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DF075-2269-4860-9861-B15E0017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67C76-1C1D-4413-9686-B8A21E7B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3070A-D5C8-4F05-88B0-8D1A86E0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D3047-BCB1-48DA-BED9-679B2861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566E0-31BA-4B48-9DDB-2B6D9535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40DB2-E031-4CB3-85C1-5AA670C6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415B2-1007-42B9-B8C3-4B0288F6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55450-1386-4C4D-B104-2C515B2C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7963C-68A3-478E-88A2-B26D0094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CF992-8CDA-47D8-B786-AFFAFF6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828-8C5E-488F-AF5A-A89B6493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41F3A-A432-4507-B1EB-757D74E9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A26F6-71A3-42E6-A361-AAF48566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5C964-5F7E-45F2-9DCC-42359109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1A153-B424-40F7-A468-03964F5C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315C9-D0AF-43C6-B161-0039C964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1CC-4A14-4CA3-8753-941DB072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CA3-1881-4E67-BA17-34D52782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006-658A-4485-924E-75C453F8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071-75D9-453A-B5C9-A8C65EB0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BEB-E270-4BDB-B614-32948F8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F9B-0135-4E69-B1F7-868FD311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DE6-8296-471F-BD12-125E7688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DD4-B922-4026-A7F3-D9BF5299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B93-B1C6-45DC-83CF-875FFC86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56E-FCEA-4FC3-B22D-29C9FED0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B76C-CE35-43E4-9C02-ECBFBC04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0501-EEE0-468C-9BF6-8438FB8F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9606-B89B-43BA-A96F-ADCE97FB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8812-1156-4F6D-B648-DD30F143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6F11-B758-43A3-9D2C-4C057A3B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DB95-E25A-4F9B-9F60-F1E8CCD0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DD1B-A48D-46E8-ACBF-073937E2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A0A8-9991-46E7-B946-36C3934F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28C9-149E-4041-B696-6EDF79EA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EF55-B590-47D3-881E-C7E0618B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2482-7217-4CA1-A95B-F7B82BB3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B443-C684-4F5F-9E24-3270FF86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9C24-9C09-4B15-A5B4-15A6A5FF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F786-F6D8-475C-90FD-B91A4320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A7AC-CD18-4AD8-9BC4-96A87F76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661E-37AC-4DF3-944C-0005E13D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1994-CF8E-4DD4-848F-94FA17CF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975C-9AE0-4893-95C6-1B489763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39A49-7057-406C-8C9F-0B4BEE30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9603B-1585-40E2-8657-5A23BE8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C7E4A-A1C0-4EC1-9A72-21B723A8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FE58-C94D-49D7-BFB3-8C61C92E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0A7E-FA2C-4942-B1AA-4D4BDEC9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90E12-B8C7-4C1D-92E4-451540AD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8477F-B2AD-4F0F-AEDE-8D50EF45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2890-FDA8-43E4-89E1-E0D6635E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9C88-10AB-4405-B90B-26334FC0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93B2-98F6-495B-914E-EB5041FE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4629C-DFAE-4156-A866-4F5B49A0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B98A-E4D0-4580-BEDF-265E7C4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FC24-49B1-4B1E-8A89-AB33CE6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E50B5-5D5B-4FE7-A2FA-D924F6BE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9B11C-5E58-47AD-BFE8-5EE1F951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99079-7114-42D4-8A95-729AD121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DB59C-965E-41E2-A2A0-CDB350BB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927B-69D5-4568-BCA6-E496C8DA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E8B14-24F4-415E-A421-4479CD51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40C0B-1A75-4EF5-ACAA-84B776E4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27378-3297-424F-ACCE-9AE1C7F9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E96DC-E311-46A7-9A4D-133D7F7B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AE4AD-7F5B-4962-A4E1-A7B0A3DB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771F8-DA0A-4931-AFE7-CA1460AC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49A5-43CC-4A6B-9657-AA95CEBB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EB6E5-E30C-4A4E-84A4-1F67D82E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1FA76-9D24-4D15-8728-B52C56F1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8657-F6DB-48F6-9D92-1C10FD24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CA90-BEFA-4B57-B0F0-C8FCE9CE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AF5D-45E7-4A4B-983B-1DDC28ED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F7523-3218-4ABE-981D-0C3FEF35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17AA4-E69B-4A69-88C4-70529A87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9D28B-D339-4F65-8394-45F7591D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C59B1-B673-48CD-BE5B-B3D40763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EC661-6C22-4D3F-9C6B-D7B7080E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820ED-2500-4A1A-B252-7CFC9435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0BF0A-B9C6-42FF-A336-EEB63CB2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3395C-E6DF-419D-8AA5-0FE9C684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06A0D-DA2F-4CAA-9FD9-FABF486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47C11-ADA5-49E6-B809-B33B39D0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C362A-DCE2-4700-A460-3AD4C3CD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3389F-5694-42AF-954A-1546AF8C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79DA6-5C4B-4CEB-8FD9-88BF3956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27BE1-F6AC-40FB-B0B1-882A88FD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5A46A-581B-4B61-B8C1-51B3FD4E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67A1E-4B09-41DA-806B-1D1A3C64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FDE46-7F29-4CBE-9A03-C5141BA3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8FBCB-8555-40A3-B653-52B83CED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D7CC9-F80B-4F7B-97C9-6AC2722B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B996B-4565-47D0-962D-BCAC9210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9739B-50CA-4DF9-97BC-FF971E6A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202F9-95FB-411E-9669-9663683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77ED3-7609-48DC-9646-DE50FDB7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FA490-F672-4BD2-9C3C-9F280079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1110F-DE5B-4837-B58B-0C9D8786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78C3F-1CBA-4B79-9E7A-B2493E1A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5E14C-B1ED-4F9E-B024-34A9D62C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DEAD-2BB5-49C5-A695-D75AC19E2F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D1B7-958E-4B9F-812A-B228155BDC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21A3-1FEA-4C4D-9625-83414327E3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7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0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5" name="Text Box 46"/>
          <p:cNvSpPr/>
          <p:nvPr/>
        </p:nvSpPr>
        <p:spPr>
          <a:xfrm>
            <a:off x="6805440" y="189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Verdana"/>
                <a:ea typeface="楷体_GB2312"/>
              </a:rPr>
              <a:t>电路分析与应用精品课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179280" y="623736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楷体_GB2312"/>
              </a:rPr>
              <a:t>重庆电子工程职业学院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0AB0-674A-40AD-B0C8-0C9D14D47C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22A-D8B6-4005-A42B-A96AB9BF8C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FD16-ECE4-4403-9C36-DB644550AD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AF45-C859-427A-AA90-D44BEBA892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C2F4-15BA-43AC-A63D-20EB1426C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C9A0-0906-43DB-9A85-C4D929B592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38AF-B4DB-4532-B66B-114C1409D0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8662-CE40-425A-9F61-9D0D32FD16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元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2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测量分析等效变换电阻电路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92360" y="4079880"/>
            <a:ext cx="4186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电子信息系    陈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Picture 4" descr="chenwei"/>
          <p:cNvPicPr/>
          <p:nvPr/>
        </p:nvPicPr>
        <p:blipFill>
          <a:blip r:embed="rId1"/>
          <a:stretch/>
        </p:blipFill>
        <p:spPr>
          <a:xfrm>
            <a:off x="6300720" y="2997360"/>
            <a:ext cx="20541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电路等效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如果两个电路的端口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与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关系完全相同，则称两个电路等效。对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所示电路，当两个电路等效时，则有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4"/>
              <p:cNvSpPr txBox="1"/>
              <p:nvPr/>
            </p:nvSpPr>
            <p:spPr>
              <a:xfrm>
                <a:off x="2700360" y="2205000"/>
                <a:ext cx="345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41" name="Picture 7" descr="图2_2"/>
          <p:cNvPicPr/>
          <p:nvPr/>
        </p:nvPicPr>
        <p:blipFill>
          <a:blip r:embed="rId2"/>
          <a:stretch/>
        </p:blipFill>
        <p:spPr>
          <a:xfrm>
            <a:off x="1332000" y="3068640"/>
            <a:ext cx="6267240" cy="23241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611280" y="5516640"/>
            <a:ext cx="8137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称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串联的等效电阻。图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电路与图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电路互为等效电路，等效电路之间的相互替代称为等效变换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2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个电阻的串联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4" name="Picture 6" descr="C2_1"/>
          <p:cNvPicPr/>
          <p:nvPr/>
        </p:nvPicPr>
        <p:blipFill>
          <a:blip r:embed="rId1"/>
          <a:stretch/>
        </p:blipFill>
        <p:spPr>
          <a:xfrm>
            <a:off x="1042920" y="1144440"/>
            <a:ext cx="7415280" cy="51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例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1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6" name="Picture 4" descr="C2_2"/>
          <p:cNvPicPr/>
          <p:nvPr/>
        </p:nvPicPr>
        <p:blipFill>
          <a:blip r:embed="rId1"/>
          <a:stretch/>
        </p:blipFill>
        <p:spPr>
          <a:xfrm>
            <a:off x="1187280" y="1500120"/>
            <a:ext cx="68407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2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并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现实中的各种电器设备大都是以并联方式连接到电源线上的。为了分析方便，可将各种电器设备简化为并联的负载电阻，以便对电路特性进行分析测算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若电路中有两个或两个以上的电阻，其首、尾两端分别连接于两个节点，在两个节点之间加上电压后，则每个电阻两端的电压都相同，此种连接方式称为电阻的并联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92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三个电阻的并联电路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0" name="Picture 4" descr="图2_4"/>
          <p:cNvPicPr/>
          <p:nvPr/>
        </p:nvPicPr>
        <p:blipFill>
          <a:blip r:embed="rId1"/>
          <a:stretch/>
        </p:blipFill>
        <p:spPr>
          <a:xfrm>
            <a:off x="1332000" y="1500120"/>
            <a:ext cx="6419880" cy="1986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C2_3"/>
          <p:cNvPicPr/>
          <p:nvPr/>
        </p:nvPicPr>
        <p:blipFill>
          <a:blip r:embed="rId2"/>
          <a:stretch/>
        </p:blipFill>
        <p:spPr>
          <a:xfrm>
            <a:off x="2340000" y="3573360"/>
            <a:ext cx="4762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个电导并联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3" name="Picture 4" descr="C2_4"/>
          <p:cNvPicPr/>
          <p:nvPr/>
        </p:nvPicPr>
        <p:blipFill>
          <a:blip r:embed="rId1"/>
          <a:stretch/>
        </p:blipFill>
        <p:spPr>
          <a:xfrm>
            <a:off x="1042920" y="1363680"/>
            <a:ext cx="741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57456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两个电阻的并联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5" name="Picture 4" descr="C2_5"/>
          <p:cNvPicPr/>
          <p:nvPr/>
        </p:nvPicPr>
        <p:blipFill>
          <a:blip r:embed="rId1"/>
          <a:stretch/>
        </p:blipFill>
        <p:spPr>
          <a:xfrm>
            <a:off x="1619280" y="1900080"/>
            <a:ext cx="60976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并联电路的应用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汽车照明电路中，采用了并联电路控制方式（如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所示），其优点是各个支路控制独立，不会产生相互影响。当刹车灯亮时，不会影响照明灯；当关闭远光灯时，不会影响近光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8" name="Picture 4" descr="图2_5"/>
          <p:cNvPicPr/>
          <p:nvPr/>
        </p:nvPicPr>
        <p:blipFill>
          <a:blip r:embed="rId2"/>
          <a:stretch/>
        </p:blipFill>
        <p:spPr>
          <a:xfrm>
            <a:off x="826920" y="2781360"/>
            <a:ext cx="7560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现有一个满刻度偏转电流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 μ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内阻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kΩ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表头，需制成量程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m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直流电流表，请问应如何连接电路并正确及参数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1" name="Picture 4" descr="图2_6"/>
          <p:cNvPicPr/>
          <p:nvPr/>
        </p:nvPicPr>
        <p:blipFill>
          <a:blip r:embed="rId2"/>
          <a:stretch/>
        </p:blipFill>
        <p:spPr>
          <a:xfrm>
            <a:off x="468360" y="3284640"/>
            <a:ext cx="83883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2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3" name="Picture 4" descr="C2_6"/>
          <p:cNvPicPr/>
          <p:nvPr/>
        </p:nvPicPr>
        <p:blipFill>
          <a:blip r:embed="rId1"/>
          <a:stretch/>
        </p:blipFill>
        <p:spPr>
          <a:xfrm>
            <a:off x="539640" y="1268280"/>
            <a:ext cx="817272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单元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测量分析等效变换电阻电路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4000" y="1612800"/>
            <a:ext cx="7786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基本要求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建立电路等效变换的概念，掌握多种等效变换方法和电路模型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的串联和并联电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形电路与△形电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源模型的等效变换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受控源模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熟练掌握实验电路连接的方法，实现电路图与实物连接的相互转换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熟练掌握使用电源和数字万用表测量电路各种状态参数的技能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3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混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如果电阻电路中，既有电阻串联又有电阻并联，称此为电阻混联电路。对于电阻混联电路在实际工作中应用很广、形式多样，在分析简化时可应用等效的概念，逐次求出各串、并联部分的等效电路，最终将其简化成一个无分支的等效电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在电阻串并混联电路中，对于给定的端口，如果已知端口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（或电压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，需要分析计算各个支路电流和电压，通常求解步骤是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求出串并联混联电路对于给定端口的等效电阻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（或等效电导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应用欧姆定律求端口的电压（或电流）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应用电流和电压分配公式分别求出各电阻的电流和电压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如图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7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所示电路中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已知：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1=1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2= R4=2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3= R5=4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=12V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求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端口的等效电阻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端口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支路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电压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ac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8" name="Picture 4" descr="图2_7"/>
          <p:cNvPicPr/>
          <p:nvPr/>
        </p:nvPicPr>
        <p:blipFill>
          <a:blip r:embed="rId1"/>
          <a:stretch/>
        </p:blipFill>
        <p:spPr>
          <a:xfrm>
            <a:off x="4067280" y="1916280"/>
            <a:ext cx="4752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67932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3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0" name="Picture 5" descr="C2_7"/>
          <p:cNvPicPr/>
          <p:nvPr/>
        </p:nvPicPr>
        <p:blipFill>
          <a:blip r:embed="rId1"/>
          <a:stretch/>
        </p:blipFill>
        <p:spPr>
          <a:xfrm>
            <a:off x="1255680" y="1428840"/>
            <a:ext cx="68166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408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4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39704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中，要求负载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0.015A≤IL≤0.020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试求滑线变阻器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P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调节范围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3" name="Picture 4" descr="图2_1"/>
          <p:cNvPicPr/>
          <p:nvPr/>
        </p:nvPicPr>
        <p:blipFill>
          <a:blip r:embed="rId1"/>
          <a:stretch/>
        </p:blipFill>
        <p:spPr>
          <a:xfrm>
            <a:off x="4932360" y="1628640"/>
            <a:ext cx="361944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6076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2.4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5" name="Picture 4" descr="C2_8"/>
          <p:cNvPicPr/>
          <p:nvPr/>
        </p:nvPicPr>
        <p:blipFill>
          <a:blip r:embed="rId1"/>
          <a:stretch/>
        </p:blipFill>
        <p:spPr>
          <a:xfrm>
            <a:off x="1547640" y="1193760"/>
            <a:ext cx="54864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812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实训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现有一磁电式微安表表头，内阻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.5 kΩ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量程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0μ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现欲改装成量程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V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0V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的电压表，请完成相关电路设计和元器件的选择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引   言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的等效变换方法在电子产品设计、调试优化和分析计算过程中具有重要作用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运用电路等效方法，可以把多个元件组成的电路简化成一个或几个元件组成的电路，从而降低产品成本，提高可靠性，简化电路分析和故障检测维修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运用等效变换分析电路，是电路分析中经常使用的方法，在电路理论中有着重要的地位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主要方法有：电阻电路的等效变换、有源电路的等效变换、受控源的等效变换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任务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2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测量分析电阻的串、并、混联电路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82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任务目标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掌握电阻串、并、混联电路连接的方法，熟练使用数字万用表测量分析相关参数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掌握应用欧姆定律和基尔霍夫定律分析电阻的串、并、混联电路参数的方法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建立等效电路的概念，掌握简化、优化电阻电路的等效变换方法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在满足功能要求的条件下，能选择标称电阻代替串、并、混联电路中的等效电阻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509400"/>
            <a:ext cx="8229600" cy="7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任务安排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52560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任务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-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现有某电子产品的局部电路如图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所示，要求负载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.015A≤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≤0.020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请选择元器件连接电路，测量分析电位器应调节的阻值范围，并测量分析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分别为表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中的工作电流时的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调节阻值，画出测量电路图，提出实验步骤。如果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正常工作电流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.018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请问能否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合并用一个电阻代替，并为合并电阻选择合适的标称电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Picture 4" descr="图2_1"/>
          <p:cNvPicPr/>
          <p:nvPr/>
        </p:nvPicPr>
        <p:blipFill>
          <a:blip r:embed="rId2"/>
          <a:stretch/>
        </p:blipFill>
        <p:spPr>
          <a:xfrm>
            <a:off x="5651640" y="1341360"/>
            <a:ext cx="3138480" cy="3311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表2_1"/>
          <p:cNvPicPr/>
          <p:nvPr/>
        </p:nvPicPr>
        <p:blipFill>
          <a:blip r:embed="rId3"/>
          <a:stretch/>
        </p:blipFill>
        <p:spPr>
          <a:xfrm>
            <a:off x="755640" y="4941720"/>
            <a:ext cx="79930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6314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等效电路应用与等效条件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实际应用中，经常使用限流电阻、可调电阻对输出的电流、电压进行调节，以满足负载的要求；在不同工作状态的测量分析、优化定型时，通常会对多个电阻进行合并，用一个等效电阻来替换，以减少电路元件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等效的条件是相互等效的两个电路具有相同的电压、电流关系，是用简单电路替换复杂电路后外电路中的电压、电流及功率完全相同，其目的是简化电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电路有两种基本形式：串联电路和并联电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1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串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在现代数字集成电路电子产品中，大量采用串联电阻来得到不同的分压电压；在测量仪器仪表中，大量采用串联不同阻值的电阻来得到不同的测量量程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若电路中有两个或两个以上的电阻首尾相接、中间没有分支，在电源的作用下，通过各电阻的电流都相同，则称这种连接方式为电阻的串联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6314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三个电阻串联的电路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设电流、电压参考方向如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所示，根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V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欧姆定律，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4"/>
              <p:cNvSpPr txBox="1"/>
              <p:nvPr/>
            </p:nvSpPr>
            <p:spPr>
              <a:xfrm>
                <a:off x="1547640" y="2349360"/>
                <a:ext cx="60487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6"/>
          <p:cNvSpPr/>
          <p:nvPr/>
        </p:nvSpPr>
        <p:spPr>
          <a:xfrm>
            <a:off x="684360" y="3068640"/>
            <a:ext cx="80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即：串联电阻电路中总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等于每个电阻上的电压之和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1" name="Picture 8" descr="图2_2a"/>
          <p:cNvPicPr/>
          <p:nvPr/>
        </p:nvPicPr>
        <p:blipFill>
          <a:blip r:embed="rId2"/>
          <a:stretch/>
        </p:blipFill>
        <p:spPr>
          <a:xfrm>
            <a:off x="3132000" y="3645000"/>
            <a:ext cx="3019680" cy="214128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"/>
          <p:cNvSpPr/>
          <p:nvPr/>
        </p:nvSpPr>
        <p:spPr>
          <a:xfrm>
            <a:off x="485640" y="591984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电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与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关系为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4"/>
              <p:cNvSpPr txBox="1"/>
              <p:nvPr/>
            </p:nvSpPr>
            <p:spPr>
              <a:xfrm>
                <a:off x="3059280" y="2060640"/>
                <a:ext cx="2124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6" name="Picture 6" descr="图2_2b"/>
          <p:cNvPicPr/>
          <p:nvPr/>
        </p:nvPicPr>
        <p:blipFill>
          <a:blip r:embed="rId2"/>
          <a:stretch/>
        </p:blipFill>
        <p:spPr>
          <a:xfrm>
            <a:off x="2340000" y="3068640"/>
            <a:ext cx="3744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1:56:50Z</dcterms:created>
  <dc:creator>chenchen</dc:creator>
  <dc:description/>
  <dc:language>en-US</dc:language>
  <cp:lastModifiedBy>GP</cp:lastModifiedBy>
  <dcterms:modified xsi:type="dcterms:W3CDTF">2010-08-22T01:45:09Z</dcterms:modified>
  <cp:revision>11</cp:revision>
  <dc:subject/>
  <dc:title>单元1  测量分析电阻电路</dc:title>
</cp:coreProperties>
</file>